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1EC-2459-4781-A428-E42567E0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21F-9087-4425-98E7-8EEA1263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D01-8391-4D01-9DB0-37535057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0BA-585F-49AB-B883-E5C478AF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708-7E29-4605-8582-35A0BD5F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958-C765-486D-84B6-E240F973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098-48C4-414E-923C-2311815E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332-6B1F-407A-90F3-EE88BC43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BD0-4424-42CE-A303-50D0B4CA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C7F-D8FF-4750-B406-3DEAF71B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438-C0B3-4A3D-AA89-FB6B803B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E9E-1336-4DAB-A3B9-075FEEA0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9DE2-E572-4104-8748-F3CD8D5D4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rvey of Plug-in Archite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Chris C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Engineer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Vic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c@uvic.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 For Plug-i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for developers to extend because of well-defined and well-known extension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of Net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g-ins allowed Netscape to “display files in formats that were not even conceived of when the browser was develop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, SVG, SWF, VRM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format creators developed plug-i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that browsers could support thei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, and it helped with ad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 For Plug-i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orking with open source code, the code might be copylefted which may force you to open source your changes. (GPL strong copyleft, MPL weak copyle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PL allows for an exception to copylefting, can allow developer to extend a plug-in interface without being infected by G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 says no copylefting if code is not embedded within an applicat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derivative code in separ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y counts as independent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of Plug-i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test plug-ins in different combinations and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compounded if there are third-party plug-ins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of Plug-i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problems can be intentionally/unintentionally introduced by a malicious coder or a careless co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escalated if third parties can distribute plug-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problems if plug-in is closed source, unable to audit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line: difficult to protect against arbitrary third party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lip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gine is responsible for locating and executing plug-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gistry lists installed plug-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unctionality is required, engine looks at registry and dynamically loads plug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lug-in provides metadata about itself inside a manifes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xtension point it ext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ervices it 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vents/tasks it listen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- Plug &amp; Play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lass_diagram" descr=""/>
          <p:cNvPicPr/>
          <p:nvPr/>
        </p:nvPicPr>
        <p:blipFill>
          <a:blip r:embed="rId2"/>
          <a:stretch/>
        </p:blipFill>
        <p:spPr>
          <a:xfrm>
            <a:off x="762120" y="1015920"/>
            <a:ext cx="76467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- Plug &amp; Play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filename: plugins/PluginInterface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ackage plugi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ublic interface PluginInterfac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ublic String sayHello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file: plugins/EnglishHello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ackage plugi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ublic class EnglishHel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implements PluginInterf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ublic String sayHell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return "Hello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file: plugins/FrenchHello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age plugi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FrenchHel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s PluginInterf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ring sayHell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"Bonjour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- Plug &amp; Play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file: HelloLoader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ublic class HelloLoad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open plugin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File dir = new File("plugins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String[] listing = dir.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load each class and execute plu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for (int i = 0; i &lt; listing.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allPlugin(class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atch (Exception ex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- Plug &amp; Play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executes individual plu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ublic static void callPlugin(String className) throws Exce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load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lass plugin = Class.forName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"plugins."+clas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heck if class implemen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Object pluginInstance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lugin.newInstanc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685800"/>
            <a:ext cx="449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get the agreed upon getCallback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as defined by the Plugin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Method sayHello 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lugin.getDeclaredMethod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"sayHello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, emptyPa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// dynamically call fu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String result = sayHello.invoke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luginIn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, emptyObjPa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).toStrin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System.out.println(resul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s maintainability and modula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s barrier of entry for new developers and third party develo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istributed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 for customizing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protect intellectual property from open source lic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issues are a conc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is tric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bility can be an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s for plug-in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 surrounding plug-in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plug-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nit of software intended to extend the functionality of an independent application at run-ti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ug-in architecture is a framework that supports plug-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ceptual model of plug-in archite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lugins" descr=""/>
          <p:cNvPicPr/>
          <p:nvPr/>
        </p:nvPicPr>
        <p:blipFill>
          <a:blip r:embed="rId2"/>
          <a:stretch/>
        </p:blipFill>
        <p:spPr>
          <a:xfrm>
            <a:off x="2895480" y="1447920"/>
            <a:ext cx="3719520" cy="4400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1080" y="3429000"/>
            <a:ext cx="2667240" cy="53352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1960" y="2936880"/>
            <a:ext cx="223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sion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must be independent from the plug-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should be a “black-box” view in both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must not “know” the plug-in beforehand; the plug-in must introduce itself to the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must be loosely coupled with the plug-ins; a common interface to be provided by the plug-ins must be defined precis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lication should define what services are provided to the plug-in via interfac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lug-in must be self-con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 For Plug-i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ity &amp;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functionality can be added as a plug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ads to a “complete, clean separation from the main application and the various branches with their separate functionalit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e application has fewer interdependencies, and becomes smaller and more maintain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s barrier of entry into appl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g-in developers can treat application as a blackb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 For Plug-i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rs can work independently from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ers of core code aren’t bogged down by new code which n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s are is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parallel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dependencies on other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architecture for open sour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 For Plug-i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customize software by merely adding/removing plug-ins without having to modify the application’s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if application needs to be deployed on a variety of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phones, servers, P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 For Plug-in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lego_light" descr=""/>
          <p:cNvPicPr/>
          <p:nvPr/>
        </p:nvPicPr>
        <p:blipFill>
          <a:blip r:embed="rId1"/>
          <a:stretch/>
        </p:blipFill>
        <p:spPr>
          <a:xfrm>
            <a:off x="6858000" y="5207040"/>
            <a:ext cx="2286000" cy="1650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6400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vey of Plug-in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400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rowser" descr=""/>
          <p:cNvPicPr/>
          <p:nvPr/>
        </p:nvPicPr>
        <p:blipFill>
          <a:blip r:embed="rId2"/>
          <a:stretch/>
        </p:blipFill>
        <p:spPr>
          <a:xfrm>
            <a:off x="838080" y="1311120"/>
            <a:ext cx="6858000" cy="4937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>
            <a:off x="7467120" y="1371600"/>
            <a:ext cx="381240" cy="685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91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developer’s tool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516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238520" y="4952880"/>
            <a:ext cx="762120" cy="10670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413064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7T03:31:08Z</dcterms:created>
  <dc:creator>...</dc:creator>
  <dc:description/>
  <dc:language>en-US</dc:language>
  <cp:lastModifiedBy>...</cp:lastModifiedBy>
  <dcterms:modified xsi:type="dcterms:W3CDTF">2005-07-18T04:39:26Z</dcterms:modified>
  <cp:revision>49</cp:revision>
  <dc:subject/>
  <dc:title>PowerPoint Presentation</dc:title>
</cp:coreProperties>
</file>