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60254-C88B-45A1-976D-E865BB435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6F37A-81F6-441D-AF38-9534F2BE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753EE-844A-4D23-B01B-7C7A7D654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59A15-3F8E-4F66-9092-23D05DA26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10CC-44A8-4265-8987-37B0DEDB9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6116-CF30-4C15-AC68-F504ADBC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C302-D682-4D44-A814-7A92B1998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DE99-F7B6-4CBB-B161-234CC74D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6429-B7F2-4894-B245-63E1A7677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35D75-7948-4EEC-8D5A-2E156E50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2D935-4815-4E5E-9647-306F3BEB8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3423-C233-44BD-A9CB-F8FC082DC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0ADF-89D6-4066-BF9C-60A6DC2A8C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Software Fault-tolerant architecture desig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ny Abdelhal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50920" y="404640"/>
          <a:ext cx="8551800" cy="5977080"/>
        </p:xfrm>
        <a:graphic>
          <a:graphicData uri="http://schemas.openxmlformats.org/presentationml/2006/ole">
            <p:oleObj r:id="rId1" spid="">
              <p:embed/>
              <p:pic>
                <p:nvPicPr>
                  <p:cNvPr id="61" name="" descr=""/>
                  <p:cNvPicPr/>
                  <p:nvPr/>
                </p:nvPicPr>
                <p:blipFill>
                  <a:blip r:embed="rId2"/>
                  <a:stretch/>
                </p:blipFill>
                <p:spPr>
                  <a:xfrm>
                    <a:off x="250920" y="404640"/>
                    <a:ext cx="8551800" cy="5977080"/>
                  </a:xfrm>
                  <a:prstGeom prst="rect">
                    <a:avLst/>
                  </a:prstGeom>
                  <a:ln w="0">
                    <a:noFill/>
                  </a:ln>
                </p:spPr>
              </p:pic>
            </p:oleObj>
          </a:graphicData>
        </a:graphic>
      </p:graphicFrame>
      <p:sp>
        <p:nvSpPr>
          <p:cNvPr id="62" name=""/>
          <p:cNvSpPr/>
          <p:nvPr/>
        </p:nvSpPr>
        <p:spPr>
          <a:xfrm>
            <a:off x="468360" y="0"/>
            <a:ext cx="66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rchitecture design constraints and issu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828180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In other way we can re arrange the model so that we can say that the major components of a fault-tolerant system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detec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 Functional check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 Control sequence check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 Data check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0000"/>
                </a:solidFill>
                <a:latin typeface="Arial"/>
              </a:rPr>
              <a:t>Fault recovery</a:t>
            </a:r>
            <a:r>
              <a:rPr b="0" lang="en-US" sz="1800" spc="-1" strike="noStrike">
                <a:solidFill>
                  <a:srgbClr val="000000"/>
                </a:solidFill>
                <a:latin typeface="Arial"/>
              </a:rPr>
              <a:t>,</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 backward recovery or</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forward recovery or</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 reset state </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Fault diagnosis</a:t>
            </a:r>
            <a:r>
              <a:rPr b="0" lang="en-US" sz="1800" spc="-1" strike="noStrike">
                <a:solidFill>
                  <a:srgbClr val="000000"/>
                </a:solidFill>
                <a:latin typeface="Arial"/>
              </a:rPr>
              <a:t>, a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1" lang="en-US" sz="1800" spc="-1" strike="noStrike">
                <a:solidFill>
                  <a:srgbClr val="000000"/>
                </a:solidFill>
                <a:latin typeface="Arial"/>
              </a:rPr>
              <a:t>Repai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476280"/>
            <a:ext cx="8713800" cy="562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Conclusions</a:t>
            </a:r>
            <a:endParaRPr b="0" lang="en-US" sz="20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fault tolerance is an immature area of research.</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are becoming increasingly dependent on software-based systems, often without realizing it. While by no means can all such systems be classified as critical, software is turning up everywhere, from airplanes and automobiles to television sets and electric razors. Also, the percentage of software in these systems (relative to hardware) is increasing. the amount of software in consumer products is doubling every yea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s of failures in these systems can range from inconvenient (e.g., a television remote control that will not work) to catastrophic (e.g., software in a commercial aircraft that inadvertently prevents the pilot from recovering from an erro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s we see that Fault tolerance has long been used as a means of improving the dependability of computer systems and using it increasing day after day.</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2484360" y="1197000"/>
            <a:ext cx="3745080" cy="22860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ANKS</a:t>
            </a:r>
            <a:endParaRPr b="0" lang="en-US" sz="1800" spc="1" strike="noStrike">
              <a:ln w="9360">
                <a:solidFill>
                  <a:srgbClr val="000000"/>
                </a:solidFill>
                <a:miter/>
              </a:ln>
              <a:solidFill>
                <a:srgbClr val="000000"/>
              </a:soli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Impact"/>
              <a:ea typeface="Impact"/>
            </a:endParaRPr>
          </a:p>
        </p:txBody>
      </p:sp>
      <p:sp>
        <p:nvSpPr>
          <p:cNvPr id="66" name=""/>
          <p:cNvSpPr txBox="1"/>
          <p:nvPr/>
        </p:nvSpPr>
        <p:spPr>
          <a:xfrm>
            <a:off x="2050920" y="3146400"/>
            <a:ext cx="48974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9280" y="476280"/>
            <a:ext cx="8785440" cy="5919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Introduction</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requirements vary from application to anoth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iability requirements of a spacecraft AND the reliability requirements of commercial comput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garding the cycle of ….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fault</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error</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failure</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fault</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 faul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dentified or hypothesized cause of an error, sometimes called a bu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n err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the system state that is liable to lead to a failure. An error may propagate, that is, produce other errors. Faults are known to be present when errors are det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 fail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the service delivered by the system deviates from the specified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476280"/>
            <a:ext cx="8280360" cy="503172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lassification of errors</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istak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failures, an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operator interaction errors.</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se error sources contribute to system failures</a:t>
            </a:r>
            <a:r>
              <a:rPr b="0" lang="en-US" sz="1800" spc="-1" strike="noStrike">
                <a:solidFill>
                  <a:srgbClr val="333399"/>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lassification of</a:t>
            </a:r>
            <a:r>
              <a:rPr b="0" lang="en-US" sz="1800" spc="-1" strike="noStrike">
                <a:solidFill>
                  <a:srgbClr val="000000"/>
                </a:solidFill>
                <a:latin typeface="Arial"/>
              </a:rPr>
              <a:t> </a:t>
            </a:r>
            <a:r>
              <a:rPr b="1" lang="en-US" sz="1800" spc="-1" strike="noStrike">
                <a:solidFill>
                  <a:srgbClr val="ff3399"/>
                </a:solidFill>
                <a:latin typeface="Arial"/>
              </a:rPr>
              <a:t>System failu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an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dural fail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784872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Examples of events, with a range of consequences, in which software is thought to be a contributing factor, are briefly noted belo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nuary 1990, the AT&amp;T system suffered a nine-hour United States wide blockade when one switch experienced abnormal behavior and attempted recovery. Because of a flaw in recovery-recognition software (in all 114 switches) and a network design that permitted propagation of the effects, the problem spread to all swit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ftware problem caused radiation safety doors in the United Kingdom, nuclear reprocessing plant to be opened accidental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nt report outlined the impact of major system outages on various businesses, noting that the cost for a brokerage is $6.5 million per hour, the cost per hour for a credit-card authorization system is $2.6 million, and for an automated teller machine, $14,500 in automatic teller machine fe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sian Gulf War, clock drift in the Patriot system caused it to miss a scud missile that hit an American barracks in Dhahran. The missile hit killed 29 people and injured 97 othe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24000" y="33336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Fault-toler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a system that can suffer failure in a component or subsystem, yet continues to function correc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tolerant is the ability to compute in the presence of errors regardless of its 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One maintenance objective for both scientific and business machines is reducing the length of repai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Example: Real time applications such as telephone swit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 system in which downtime costs tens of thousands of dollars per minute (e.g. airline reservation system) an increase of only .1% availability makes a substantial dif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476280"/>
            <a:ext cx="8281800" cy="462600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Software faults may be traced to</a:t>
            </a:r>
            <a:r>
              <a:rPr b="1" lang="en-US" sz="1800" spc="-1" strike="noStrike">
                <a:solidFill>
                  <a:srgbClr val="ff3399"/>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a:t>
            </a:r>
            <a:r>
              <a:rPr b="0" lang="en-US" sz="1800" spc="-1" strike="noStrike">
                <a:solidFill>
                  <a:srgbClr val="000000"/>
                </a:solidFill>
                <a:latin typeface="Arial"/>
              </a:rPr>
              <a:t>Incorrect requirements (where the software matches the requirements, but the behavior specified in the requirements is not appropriate)</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a:t>
            </a:r>
            <a:r>
              <a:rPr b="0" lang="en-US" sz="1800" spc="-1" strike="noStrike">
                <a:solidFill>
                  <a:srgbClr val="000000"/>
                </a:solidFill>
                <a:latin typeface="Arial"/>
              </a:rPr>
              <a:t>To the implementation (software design and coding) not satisfying the requirement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a:t>
            </a:r>
            <a:r>
              <a:rPr b="0" lang="en-US" sz="1800" spc="-1" strike="noStrike">
                <a:solidFill>
                  <a:srgbClr val="000000"/>
                </a:solidFill>
                <a:latin typeface="Arial"/>
              </a:rPr>
              <a:t>Changes in operational usage or incorrect modifications may introduce new faul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protect against these software faults, we cannot simply add redundancy, as is typically done for hardware faults, because doing so will simply duplicate the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 to provide protection against these faults, we turn to </a:t>
            </a:r>
            <a:r>
              <a:rPr b="1" lang="en-US" sz="1800" spc="-1" strike="noStrike" u="sng">
                <a:solidFill>
                  <a:srgbClr val="333399"/>
                </a:solidFill>
                <a:uFillTx/>
                <a:latin typeface="Arial"/>
              </a:rPr>
              <a:t>software fault tolerance</a:t>
            </a:r>
            <a:r>
              <a:rPr b="1" lang="en-US" sz="1800" spc="-1" strike="noStrike">
                <a:solidFill>
                  <a:srgbClr val="333399"/>
                </a:solidFill>
                <a:latin typeface="Arial"/>
              </a:rPr>
              <a: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333360"/>
            <a:ext cx="8640720" cy="5723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Increasing the dependability of software presents some unique challenges when compared to traditional hardware systems</a:t>
            </a:r>
            <a:r>
              <a:rPr b="1" lang="en-US" sz="1800" spc="-1" strike="noStrike">
                <a:solidFill>
                  <a:srgbClr val="ff3399"/>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faults are primarily physical faults, which can be characterized and predicted over ti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has only logical faults, which are difficult to visualize, classify, detect, and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does not physically wear out, burn out, or otherwise physically deteriorate with ti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available techniques for measuring the number of software faults in a program and every change to a software system creates a new system that has different reliability properties from the original o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ion of a software error may have side effects in other parts of the system that increase rather than decrease the total number of err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476280"/>
            <a:ext cx="820908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ly, correcting a software error is not as simple as correcting a hardware error by replacing a faulty component with a good one. But once the software faults are corrected, they don’t recur as do hardware faul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large software system, exhaustive testing is usually not feasi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system is used more frequently and is operated as its full capacity, major errors are detected and corrected, thereby reducing the total number of faults in the system. The number continues to decrease asymptomatically decreasing with time to a limit of some fixed positive number , but this is the case for hardware design it becomes stable with time but not the case in software. (</a:t>
            </a:r>
            <a:r>
              <a:rPr b="1" lang="en-US" sz="1800" spc="-1" strike="noStrike">
                <a:solidFill>
                  <a:srgbClr val="ff3399"/>
                </a:solidFill>
                <a:latin typeface="Arial"/>
              </a:rPr>
              <a:t>why?)</a:t>
            </a:r>
            <a:endParaRPr b="0" lang="en-US" sz="1800" spc="-1" strike="noStrike">
              <a:solidFill>
                <a:srgbClr val="000000"/>
              </a:solidFill>
              <a:latin typeface="Arial"/>
            </a:endParaRPr>
          </a:p>
        </p:txBody>
      </p:sp>
      <p:sp>
        <p:nvSpPr>
          <p:cNvPr id="50" name=""/>
          <p:cNvSpPr/>
          <p:nvPr/>
        </p:nvSpPr>
        <p:spPr>
          <a:xfrm>
            <a:off x="5796000" y="4508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grpSp>
        <p:nvGrpSpPr>
          <p:cNvPr id="51" name=""/>
          <p:cNvGrpSpPr/>
          <p:nvPr/>
        </p:nvGrpSpPr>
        <p:grpSpPr>
          <a:xfrm>
            <a:off x="2050920" y="3789360"/>
            <a:ext cx="4537080" cy="2168280"/>
            <a:chOff x="2050920" y="3789360"/>
            <a:chExt cx="4537080" cy="2168280"/>
          </a:xfrm>
        </p:grpSpPr>
        <p:sp>
          <p:nvSpPr>
            <p:cNvPr id="52" name=""/>
            <p:cNvSpPr/>
            <p:nvPr/>
          </p:nvSpPr>
          <p:spPr>
            <a:xfrm>
              <a:off x="2050920" y="378936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050920" y="5876640"/>
              <a:ext cx="41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290920" y="5373360"/>
              <a:ext cx="72072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266920" y="4005000"/>
              <a:ext cx="4321080" cy="1392480"/>
            </a:xfrm>
            <a:custGeom>
              <a:avLst/>
              <a:gdLst/>
              <a:ahLst/>
              <a:rect l="l" t="t" r="r" b="b"/>
              <a:pathLst>
                <a:path w="2722" h="877">
                  <a:moveTo>
                    <a:pt x="0" y="0"/>
                  </a:moveTo>
                  <a:cubicBezTo>
                    <a:pt x="163" y="290"/>
                    <a:pt x="326" y="581"/>
                    <a:pt x="681" y="725"/>
                  </a:cubicBezTo>
                  <a:cubicBezTo>
                    <a:pt x="1036" y="869"/>
                    <a:pt x="1792" y="847"/>
                    <a:pt x="2132" y="862"/>
                  </a:cubicBezTo>
                  <a:cubicBezTo>
                    <a:pt x="2472" y="877"/>
                    <a:pt x="2616" y="824"/>
                    <a:pt x="272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356000" y="5589360"/>
              <a:ext cx="12952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Arial"/>
              </a:endParaRPr>
            </a:p>
          </p:txBody>
        </p:sp>
      </p:grpSp>
      <p:sp>
        <p:nvSpPr>
          <p:cNvPr id="57" name=""/>
          <p:cNvSpPr/>
          <p:nvPr/>
        </p:nvSpPr>
        <p:spPr>
          <a:xfrm>
            <a:off x="611280" y="4508640"/>
            <a:ext cx="143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esign faults</a:t>
            </a:r>
            <a:endParaRPr b="0" lang="en-US" sz="1800" spc="-1" strike="noStrike">
              <a:solidFill>
                <a:srgbClr val="000000"/>
              </a:solidFill>
              <a:latin typeface="Arial"/>
            </a:endParaRPr>
          </a:p>
        </p:txBody>
      </p:sp>
      <p:sp>
        <p:nvSpPr>
          <p:cNvPr id="58" name=""/>
          <p:cNvSpPr/>
          <p:nvPr/>
        </p:nvSpPr>
        <p:spPr>
          <a:xfrm>
            <a:off x="4284720" y="6021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79280" y="476280"/>
            <a:ext cx="82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Software fault tolerance techniques have been used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erospa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clear pow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lthc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lecommunications an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nd transportation industries, among oth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23:47:00Z</dcterms:created>
  <dc:creator>pepo</dc:creator>
  <dc:description/>
  <dc:language>en-US</dc:language>
  <cp:lastModifiedBy>pepo</cp:lastModifiedBy>
  <dcterms:modified xsi:type="dcterms:W3CDTF">2005-07-21T19:24:18Z</dcterms:modified>
  <cp:revision>25</cp:revision>
  <dc:subject/>
  <dc:title>Software Fault-tolerant architecture design</dc:title>
</cp:coreProperties>
</file>